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2F77-F2FD-4E90-8A70-F5B016030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987E-497F-4936-BF11-E713886AF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F008-472B-4D33-A35C-D26D35D8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D5B-178E-44FD-925D-F41D30BB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6E62-5DC8-48BE-9AF6-11448172D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06A-BAAA-4206-881C-B7CD7869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EBD0-0234-4A93-AF6E-CF6B9180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EAD7-8DA9-45F1-80F1-F0FEBF62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7DA-33B1-4A0C-9072-34D99DF3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066F-81DA-4EAC-8B84-E4D477F52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5FF2-386A-4008-A995-F93ACCB8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6282-8F00-4828-BB79-4CACF4E6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7E5C-7104-42DA-B676-A00AA5191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1688-8887-40A5-BCAC-B5FED8D4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3DE-E895-4ED8-A65E-690ABB82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8FAD-8D39-4866-A828-F48246FF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F588-B239-4957-94E4-FFFD15F1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EA59-0CEA-49BA-98D0-7477E0A8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45D6-D7DD-439A-AA05-5DF0E4CF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381-3639-4CBD-8491-C7C10A7D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172-8502-48AC-8CB7-088BC45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63A-8E37-495D-A262-5F4F957C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865-E457-4822-913E-F37C4C16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7B42-29D7-4F36-8479-F56D9E4A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D4CF-A273-456A-B9DA-15150414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00D3-8BD2-4BCC-A22A-0079D0F2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79CB-626D-447C-87A8-F2BEAF2B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5DED-E913-4492-8A3A-ECAF3F8B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58D6-EAD0-42F0-8B91-FC86D980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9049-472E-46CA-8769-3042E2A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F97-DCBD-4747-83A7-7B6A939F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B135-5318-4DE6-8F73-A307F97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42A0-34BA-4526-BE1B-D36846B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F32-D9A0-4EDE-8A82-556DA8F2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0BFE-1AC5-42CB-993B-F2F6640B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5EF5-77E1-4DAA-87AF-B690BCE0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7DC-FB7E-4D15-BBA8-5D28A3DC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F51-1CAA-4A3A-89F6-36FC77AA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668-FC7C-4E30-8DD7-7AEC7BF7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8A5-89F7-48EA-B717-A3D65020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14F-1A69-4DD0-8659-26F2ECC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FC7-38F0-414B-88EA-28DDCDB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C0D-DFA5-4AD7-9CDD-55BADDA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134-52BC-493B-B4E3-1920C02883E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D6D3-70B8-4442-979E-83E2C8A5F35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merican Typewriter Light"/>
              </a:rPr>
              <a:t>Six + One Traits of Revision</a:t>
            </a:r>
            <a:endParaRPr b="0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2120" y="4952520"/>
            <a:ext cx="6032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48520" y="388620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Placeholder 5" descr="6+1WritingTratis.jpg"/>
          <p:cNvPicPr/>
          <p:nvPr/>
        </p:nvPicPr>
        <p:blipFill>
          <a:blip r:embed="rId2"/>
          <a:stretch/>
        </p:blipFill>
        <p:spPr>
          <a:xfrm>
            <a:off x="3273480" y="2000160"/>
            <a:ext cx="491328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WORD CHOIC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8288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ords paint a picture in the reader's mind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aren't any words that are repeated too often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language is natural, not overdon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used strong action verbs to add drama to the paper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used specific nouns to identify people, places, and object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used descriptive adjectives to help create a mental picture for the read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used similes or metaphors to explain anything unusual to the reader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riter has avoided vague, boring, overused words, slang, and clichés. He/She has tried something new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Word Choice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2680" y="350496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at its best when it includes the use of rich, colorful, precise language that moves and enlightens the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SENTENCE FLUENCY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entence is a complete thought that makes sense. No words have been left out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fragments used are intentional and add to the message of the paper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ll sentences are the same length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ll sentences have the sam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ll sentences begin the same way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per is smooth and easy to rea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18288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entence Fluency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505320" y="3276360"/>
            <a:ext cx="44193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the flow of the language, the sound of word patterns-the way the writing plays to the ear, not just to th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WRITING CONVENTION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per isn't one or two huge paragraphs. Each new idea has its own paragraph, which is indente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ideas are in the same paragraph so there aren't too many paragraph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 spelling erro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italization is used correctly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tences are punctuated correctly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 grammatical errors. The reader doesn't have to stop reading to mentally correct mistakes in the paper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onventions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352320" y="34290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present the piece’s level of correctness- the extent to which the writer uses grammar and mechanics with pr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onvention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ext is formatted and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if text is hand written or word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is readable and understa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vis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whit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s, page numbering and bu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Presentation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eroes in on the form and layout- how pleasing the piece is to th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Typewriter Light"/>
              </a:rPr>
              <a:t>Writing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2590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halkboard"/>
              </a:rPr>
              <a:t>Prewriting        Drafting       Revision       Editing       Publis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04920" y="33368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Ideas               Ideas            Ideas       Conventions        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04920" y="40226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xti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Voice          Organization   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04920" y="4708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xti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12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Word Choi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04920" y="60800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Sentence Fl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8954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8380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7242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63244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8153280" y="304812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724280" y="37180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724280" y="44038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47242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472428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838080" y="37180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2895480" y="37180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4"/>
          <p:cNvSpPr/>
          <p:nvPr/>
        </p:nvSpPr>
        <p:spPr>
          <a:xfrm>
            <a:off x="533520" y="0"/>
            <a:ext cx="76960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Typewriter Light"/>
              </a:rPr>
              <a:t>IDEAS &amp; CONT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erican Typewriter Light"/>
              </a:rPr>
              <a:t>The heart of any piece of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5"/>
          <p:cNvSpPr/>
          <p:nvPr/>
        </p:nvSpPr>
        <p:spPr>
          <a:xfrm>
            <a:off x="99072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aper has a clear purpose or makes a point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paragraph relates to the paper's main ide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paragraph contains clear, relevant details and examples in every that develop and support the main ide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writer sticks to the main idea and leaves out details that do not matter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aper contains enough information to cover the subject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tle, if there is one, relates to the main idea of the paper and "hooks" the reader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727de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Ideas 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05320" y="3200040"/>
            <a:ext cx="4419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ke up the content of the piece of writing-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f the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g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ORGANIZAT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 grabs the reader's attention, making the reader want to read more. It also gives a sense of the main ide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zational pattern makes sense. It is easy for the reader to follow alo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gaps where something seems to be miss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ragraph talks about only one ide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s are linked together with smooth transi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lusion ties everything together with a final point or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der isn't left "hanging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Organization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657240" y="3809520"/>
            <a:ext cx="4267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the internal structure of the piece, the thread of meaning, the logical pattern of th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51460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002200" y="2685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 Light"/>
              </a:rPr>
              <a:t>VOIC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2" name="Text Placeholder 3"/>
          <p:cNvSpPr/>
          <p:nvPr/>
        </p:nvSpPr>
        <p:spPr>
          <a:xfrm>
            <a:off x="1371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sounds different from everyone else's. It's uniqu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sounds like the write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riting shows how the writer feels and thinks about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has personalit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is convincing, not "fake.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is fun to rea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per is lively, or exciting in some wa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16765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Voice …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428640" y="33523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u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 the piece. It’s what makes the writer’s style singular, as his or her feelings and convictions come out through th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th Culham, p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04960" y="213336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 separates writing that is read from writing that is not read.”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ald Murray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9:44:26Z</dcterms:created>
  <dc:creator>Ann</dc:creator>
  <dc:description/>
  <dc:language>en-US</dc:language>
  <cp:lastModifiedBy>Mobile Student</cp:lastModifiedBy>
  <dcterms:modified xsi:type="dcterms:W3CDTF">2011-12-31T20:18:04Z</dcterms:modified>
  <cp:revision>159</cp:revision>
  <dc:subject/>
  <dc:title>Assessment must promote learning, not just measure it. When learners are well served, assessment becomes a learning experience that supports and improves instruction. The learners are not just the students but also the teachers, who learn something about their students. Regie Routman Conversations (2001)</dc:title>
</cp:coreProperties>
</file>